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CC0E-8967-4070-9787-F2FA0C0F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C22C-7CFC-4B5F-9628-52EF70AA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68E4-543C-4C5F-8240-6B8BFBA7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4B61-3B65-45FE-8E5E-C573B644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BC2-9D02-497B-8DE9-6D8E3494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1FBA-6652-46A3-9278-0734A5EB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DD07-F6AB-441E-BEAD-EE54062B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CEA7-5E61-4E09-91B5-C9C0DBEA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3A46-C65A-4B5A-B1E5-D9932121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534-1C45-4CD6-9143-0C55C8D4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2059-6396-456A-8145-D33C082F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EC19-57E2-46C2-ACF2-ACA50D32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0968-8664-4FDF-9F59-392012C8821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3 Standing in Motion.wma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3505320" y="5791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usic by: Yanni’s Out of Silence CD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ng entitled “Standing in Motion”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609480" y="1219320"/>
            <a:ext cx="65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alibri"/>
              </a:rPr>
              <a:t>Technology Used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1523880" y="35053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ptop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4495680" y="23623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gital Camer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3962520" y="44956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ik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4952880" y="56386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net Search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4724280" y="32767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werPoi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380880" y="5029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or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914400" y="23623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uter Lab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TextBox 14"/>
          <p:cNvSpPr/>
          <p:nvPr/>
        </p:nvSpPr>
        <p:spPr>
          <a:xfrm>
            <a:off x="4952880" y="4267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457200" y="533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You Believe…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3276720" y="2743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ublish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6477120" y="3733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Campu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Box 18"/>
          <p:cNvSpPr/>
          <p:nvPr/>
        </p:nvSpPr>
        <p:spPr>
          <a:xfrm>
            <a:off x="5562720" y="46483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hotosho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Box 19"/>
          <p:cNvSpPr/>
          <p:nvPr/>
        </p:nvSpPr>
        <p:spPr>
          <a:xfrm>
            <a:off x="1447920" y="53341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vie Mak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Box 20"/>
          <p:cNvSpPr/>
          <p:nvPr/>
        </p:nvSpPr>
        <p:spPr>
          <a:xfrm>
            <a:off x="6477120" y="2590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c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 advTm="3000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838080" y="83808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alibri"/>
              </a:rPr>
              <a:t>Students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2590920" y="38862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structing Surveys and Surveying Community Members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380880" y="2057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epared Business Plans by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1447920" y="26668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alyzing Market Demands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4038480" y="2895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alyzing Local Competitors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TextBox 20"/>
          <p:cNvSpPr/>
          <p:nvPr/>
        </p:nvSpPr>
        <p:spPr>
          <a:xfrm>
            <a:off x="990720" y="50292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stablishing Restaurant Structure and Company Descriptions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Box 21"/>
          <p:cNvSpPr/>
          <p:nvPr/>
        </p:nvSpPr>
        <p:spPr>
          <a:xfrm>
            <a:off x="1600200" y="32767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alyzing Possible Advertising and Real Estate Options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1981080" y="46483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amining Costs and Establishing Loan Amounts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457200" y="533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You Believe…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838080" y="83808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alibri"/>
              </a:rPr>
              <a:t>Students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Box 17"/>
          <p:cNvSpPr/>
          <p:nvPr/>
        </p:nvSpPr>
        <p:spPr>
          <a:xfrm>
            <a:off x="380880" y="2057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epared Business Plans by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2895480" y="2743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termining Break Even Analysis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stablishing Goals and Future Outlooks for the Company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4267080" y="3505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lculating Employee Costs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2438280" y="32004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d Presented them in a Professional Mann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380880" y="33526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veloped an Executive Business Pl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Box 16"/>
          <p:cNvSpPr/>
          <p:nvPr/>
        </p:nvSpPr>
        <p:spPr>
          <a:xfrm>
            <a:off x="457200" y="533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You Believe…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838080" y="83808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alibri"/>
              </a:rPr>
              <a:t>Students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2590920" y="3581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lculated Cost/Pl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3962520" y="21337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lculated Markup and Menu Pri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838080" y="4267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igned Menu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5410080" y="3200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igned Logo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4267080" y="57150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lculated Nutritional Inform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3124080" y="5105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ose Menu Item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Box 15"/>
          <p:cNvSpPr/>
          <p:nvPr/>
        </p:nvSpPr>
        <p:spPr>
          <a:xfrm>
            <a:off x="457200" y="2819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iled Information on a Wik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3505320" y="42670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igned Restaurant Atmosphe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457200" y="533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You Believe…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838080" y="83808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alibri"/>
              </a:rPr>
              <a:t>Students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1905120" y="25909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epared the Fo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4952880" y="1523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rved the Fo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TextBox 16"/>
          <p:cNvSpPr/>
          <p:nvPr/>
        </p:nvSpPr>
        <p:spPr>
          <a:xfrm>
            <a:off x="4267080" y="3505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rformed Musi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Box 17"/>
          <p:cNvSpPr/>
          <p:nvPr/>
        </p:nvSpPr>
        <p:spPr>
          <a:xfrm>
            <a:off x="914400" y="4267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d Decor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Box 18"/>
          <p:cNvSpPr/>
          <p:nvPr/>
        </p:nvSpPr>
        <p:spPr>
          <a:xfrm>
            <a:off x="4495680" y="5562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alyzed Local Food Distributo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TextBox 19"/>
          <p:cNvSpPr/>
          <p:nvPr/>
        </p:nvSpPr>
        <p:spPr>
          <a:xfrm>
            <a:off x="914400" y="3200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amined Organic Foo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Box 20"/>
          <p:cNvSpPr/>
          <p:nvPr/>
        </p:nvSpPr>
        <p:spPr>
          <a:xfrm>
            <a:off x="2133720" y="48006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veloped a Persuasive Sales Pitc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TextBox 21"/>
          <p:cNvSpPr/>
          <p:nvPr/>
        </p:nvSpPr>
        <p:spPr>
          <a:xfrm>
            <a:off x="4495680" y="2514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igned Business Car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TextBox 22"/>
          <p:cNvSpPr/>
          <p:nvPr/>
        </p:nvSpPr>
        <p:spPr>
          <a:xfrm>
            <a:off x="1371600" y="3962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igned Invit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extBox 23"/>
          <p:cNvSpPr/>
          <p:nvPr/>
        </p:nvSpPr>
        <p:spPr>
          <a:xfrm>
            <a:off x="457200" y="533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You Believe…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rcRect l="17501" t="18000" r="17501" b="15000"/>
          <a:stretch/>
        </p:blipFill>
        <p:spPr>
          <a:xfrm>
            <a:off x="0" y="533520"/>
            <a:ext cx="9107640" cy="58672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"/>
          <p:cNvSpPr/>
          <p:nvPr/>
        </p:nvSpPr>
        <p:spPr>
          <a:xfrm>
            <a:off x="0" y="2362320"/>
            <a:ext cx="9144000" cy="43434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advTm="7000"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1143000" y="26668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usic by: Yanni’s Out of Silence CD, Song entitled “Standing in Motion”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n you believe…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914400" y="99072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is year’s restaurant project included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3352680" y="350532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10 teache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914400" y="99072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is year’s restaurant project included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3352680" y="350532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11 clas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914400" y="99072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is year’s restaurant project included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3352680" y="350532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14 period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914400" y="99072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is year’s restaurant project included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1219320" y="35053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              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191 student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914400" y="99072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is year’s restaurant project included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2743200" y="35053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in 6 different grad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209680" y="4267080"/>
            <a:ext cx="632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 what did we get for all that work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1" descr="Logo.JPG"/>
          <p:cNvPicPr/>
          <p:nvPr/>
        </p:nvPicPr>
        <p:blipFill>
          <a:blip r:embed="rId1"/>
          <a:stretch/>
        </p:blipFill>
        <p:spPr>
          <a:xfrm>
            <a:off x="1322280" y="345960"/>
            <a:ext cx="6499440" cy="61660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4:43:06Z</dcterms:created>
  <dc:creator>Tracy Sevin</dc:creator>
  <dc:description/>
  <dc:language>en-US</dc:language>
  <cp:lastModifiedBy>tsevin</cp:lastModifiedBy>
  <dcterms:modified xsi:type="dcterms:W3CDTF">2010-11-01T13:03:46Z</dcterms:modified>
  <cp:revision>82</cp:revision>
  <dc:subject/>
  <dc:title>Did you know…?</dc:title>
</cp:coreProperties>
</file>